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F3CF9-1509-4F94-97CC-2E91B461E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3A85A-3327-4B95-A068-87EAC0EBC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0690F-813E-483C-AA48-FDDE8D5C6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A871F-1E2B-40D8-8632-EB6916016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8CF44-2734-449E-A9C9-4990F9600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FC186-90D9-4A63-848B-AF37E22FB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3E837-1419-4164-83B1-F3F34AFEA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18C05-5075-4E26-B0F0-9CEEC1F8E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F7C98-F1A5-4F06-9120-68F39DBC8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2194C-1D15-43D5-8EA6-7BA66189C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91DE8-08F8-465A-99F1-3A2561160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1308B-B6C3-4BC6-9857-14479A428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0EB6E-E33F-4DA7-BEFC-0F3A8ADD9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6C30F-BAD0-4A65-86FA-C39D256C5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7FC7B-9E1C-451F-BB80-3F52F2A79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60AE6-94D1-4FD3-A53D-ECC798338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2D6C8-A34F-4C9C-B162-DDF53156E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8DC1B-3241-4362-8DC0-3EBDC5FA6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129AF-AB43-45E5-8E69-662612F36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D6DC5-B68B-4EEA-AA6D-2BFB90091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3E971-D350-4741-B094-9CB9D0A30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1706B-91D2-42FE-8ECD-F552CD633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5B83D-9C49-4160-8B15-C704FBCF5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AD095-D209-4282-99A2-0B91F7049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F59BF-DF63-4828-9913-3B408D69DF7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93AFB-FF29-476A-AE17-67F54C72662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Encod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-Level (NRZ-L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different voltages for 0 and 1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tage constant during bit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I.e. no return to zero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bsence of voltage for zero, constant positive voltage for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ften, negative voltage for one value and positive for the 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NRZ-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 Inver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on o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voltage pulse for duration of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encoded as presence or absence of signal transition at beginning of bit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ition (low to high or high to low) denotes a binary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 denotes binary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ample of differential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3045" t="0" r="0" b="69874"/>
          <a:stretch/>
        </p:blipFill>
        <p:spPr>
          <a:xfrm>
            <a:off x="685800" y="1752480"/>
            <a:ext cx="7772400" cy="27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l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epresented by changes rather than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reliable detection of transition rather than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complex transmission layouts it is easy to lose sense of pol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engin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ke good use of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synchronization cap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magnetic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often used for signal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more than two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represented by no lin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represented by positive or negative pul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ulses alternate in pola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 of sync if a long string of ones (zeros still a proble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net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represented by absence of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represented by alternating positive and neg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advantage or disadvantage over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olar-AMI and 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457200" y="2286000"/>
            <a:ext cx="7619400" cy="2657160"/>
            <a:chOff x="457200" y="2286000"/>
            <a:chExt cx="7619400" cy="2657160"/>
          </a:xfrm>
        </p:grpSpPr>
        <p:pic>
          <p:nvPicPr>
            <p:cNvPr id="118" name="" descr=""/>
            <p:cNvPicPr/>
            <p:nvPr/>
          </p:nvPicPr>
          <p:blipFill>
            <a:blip r:embed="rId1"/>
            <a:stretch/>
          </p:blipFill>
          <p:spPr>
            <a:xfrm>
              <a:off x="481680" y="2634480"/>
              <a:ext cx="7594920" cy="230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" descr=""/>
            <p:cNvPicPr/>
            <p:nvPr/>
          </p:nvPicPr>
          <p:blipFill>
            <a:blip r:embed="rId2"/>
            <a:stretch/>
          </p:blipFill>
          <p:spPr>
            <a:xfrm>
              <a:off x="457200" y="2286000"/>
              <a:ext cx="7594920" cy="522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e Off for 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s efficient as NR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ignal element only represents on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 3 level system could represent 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= 1.5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must distinguish between three level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+A, -A, 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pprox. 3dB more signal power for same probability of bi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in middle of each bi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serves as clock and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to high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to low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dbit transition is clocking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at start of a bit period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at start of a bit period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this is a differential encoding sche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least one transition per bit time and possibly tw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modulation rate is twice NR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mor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 on mid bit transition (self clock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sence of expected transi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981080" y="1371600"/>
            <a:ext cx="48513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ramb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crambling to replace sequences that would produce constant volt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lling seque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produce enough transitions to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recognized by receiver and replace with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me length as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ng sequences of zero level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eduction in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With 8 Zeros Substit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positive encode as 000+-0-+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negative encode as 000-+0+-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s two violations of AMI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likely to occur as a result of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and interprets as octet of all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ensity Bipolar 3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ing of four zeros replaced with one or two pul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 and 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9164"/>
          <a:stretch/>
        </p:blipFill>
        <p:spPr>
          <a:xfrm>
            <a:off x="838080" y="1447920"/>
            <a:ext cx="7391520" cy="52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Analog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modem (modulator-demodula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plitude shift keying (A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shift keying (F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shift keying (P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72669"/>
          <a:stretch/>
        </p:blipFill>
        <p:spPr>
          <a:xfrm>
            <a:off x="2286000" y="1371600"/>
            <a:ext cx="4438800" cy="18381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rcRect l="0" t="40938" r="0" b="39803"/>
          <a:stretch/>
        </p:blipFill>
        <p:spPr>
          <a:xfrm>
            <a:off x="2352600" y="3048120"/>
            <a:ext cx="4438800" cy="12952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rcRect l="0" t="73798" r="0" b="9207"/>
          <a:stretch/>
        </p:blipFill>
        <p:spPr>
          <a:xfrm>
            <a:off x="2352600" y="4419720"/>
            <a:ext cx="44388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plitud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amplitudes of carr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, one amplitude is zer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presence and absence of carrier is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sudden gain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over 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frequencies (near carri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ss susceptible to error than 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frequency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 higher frequency on LANs using co-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, discontinuous voltage pul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ulse is a signal e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 encoded into signal el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SK on Voice Grade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33520" y="1363680"/>
            <a:ext cx="8001000" cy="48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as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of carrier signal is shifted to represent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P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 shifted relative to previous transmission rather than some referen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adrature PS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use by each signal element representing more than one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hifts o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/2 (9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element represents two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use 8 phase angles and have more than one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9600bps modem use 12 angles , four of which have two amplitu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of Digital to Analog Modulation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K and PSK bandwidth directly related to bit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SK bandwidth related to data rate for lower frequencies, but to offset of modulated frequency from carrier at high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ee Stallings for ma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the presence of noise, bit error rate of PSK and QPSK are about 3dB superior to ASK and F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sion of analog data into digit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code other than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converted to analog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alog to digital conversion done using a cod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lse code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ta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ignal is sampled at regular intervals at a rate higher than twice the highest signal frequency, the samples contain all the information of the origin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Proof - Stallings appendix 4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ice data limited to below 4000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8000 sample per 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amples (Pulse Amplitude Modulation, PA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ample assigned digital val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 bit system gives 1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ntizing error or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ions mean it is impossible to recover original exa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sample gives 25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comparable with analo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000 samples per second of 8 bits each gives 64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linear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ation levels not evenly sp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s overall signal distor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be done by comp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input is approximated by a staircase fun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ve up or down one level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at each sample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 behavi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 moves up or down at each sampl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8933"/>
          <a:stretch/>
        </p:blipFill>
        <p:spPr>
          <a:xfrm>
            <a:off x="838080" y="1371600"/>
            <a:ext cx="7315200" cy="53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ignal elements have same sig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logic state represented by positive voltage the other by negative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data transmission 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ration or length of a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for transmitter to emit th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10977"/>
          <a:stretch/>
        </p:blipFill>
        <p:spPr>
          <a:xfrm>
            <a:off x="1959120" y="1380960"/>
            <a:ext cx="4975200" cy="532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voice reproduc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CM - 128 levels (7 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bandwidth 4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8000 x 7 = 56kbps for P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pression can improve on th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nterframe coding techniques for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Analo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y modulate analog signal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frequency can give more efficient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frequency division multiplexing (chapter 8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s of 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Anmodu" descr=""/>
          <p:cNvPicPr/>
          <p:nvPr/>
        </p:nvPicPr>
        <p:blipFill>
          <a:blip r:embed="rId1"/>
          <a:srcRect l="0" t="0" r="0" b="2084"/>
          <a:stretch/>
        </p:blipFill>
        <p:spPr>
          <a:xfrm>
            <a:off x="4038480" y="0"/>
            <a:ext cx="4692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read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data over wid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s jamming and interception ha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broadcast over seemingly random series of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bit is represented by multiple bits in transmitted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ipp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ion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the signal level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d in baud = signal elemen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rk and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1 and Binary 0 respectiv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pretin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kn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ing of bits - when they start and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tors affecting successful interpreting of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to noise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high frequencies reduces required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dc component allows ac coupling via transformer, providing iso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e power in the middle of th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ing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 mechanism based o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built in to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interference and noise immun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are better than oth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 and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signal rate (&amp; thus data rate) lead to higher c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require signal rate greater tha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-Level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(NRZ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8Z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B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1T13:24:22Z</dcterms:created>
  <dc:creator>Adrian J Pullin</dc:creator>
  <dc:description/>
  <dc:language>en-US</dc:language>
  <cp:lastModifiedBy>Adrian J Pullin</cp:lastModifiedBy>
  <dcterms:modified xsi:type="dcterms:W3CDTF">1999-10-13T14:41:40Z</dcterms:modified>
  <cp:revision>38</cp:revision>
  <dc:subject/>
  <dc:title>William Stallings Data and Computer Communications</dc:title>
</cp:coreProperties>
</file>